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3.pct" ContentType="image/x-pict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B84-5B88-4527-AE8C-FE5400A7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88E-C18E-4444-95E6-F68A2162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A58-E6E2-4C7B-9157-3F75BA05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594-F8C0-483E-AACE-69A2F248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631-87F5-4C9B-A1E9-3C8F8EC9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0D1-2B7F-4129-B84E-8091BFC8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479-2E12-43E5-AD80-BE442E63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C6B-C14E-41EB-B89F-6BB57997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7E1-B53E-41BF-95AE-B5EC1729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4DB-D7BF-4354-B321-E464518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5A7-F47D-41F9-93D7-BF1EC13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931-8197-41DA-8F9A-E9B8129F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C4CA-3FBA-493D-9C9D-3A113F758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9440" y="365040"/>
            <a:ext cx="710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3480" y="289080"/>
            <a:ext cx="717840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Times New Roman"/>
              </a:rPr>
              <a:t>Chapter 31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Diseases and Disabiliti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01160" y="308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631800"/>
            <a:ext cx="698976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66"/>
                </a:solidFill>
                <a:uFillTx/>
                <a:latin typeface="Chalkboard Bold"/>
              </a:rPr>
              <a:t>Tumor:</a:t>
            </a:r>
            <a:r>
              <a:rPr b="0" lang="en-US" sz="2400" spc="-1" strike="noStrike">
                <a:solidFill>
                  <a:srgbClr val="ff6666"/>
                </a:solidFill>
                <a:latin typeface="Chalkboard Bold"/>
              </a:rPr>
              <a:t>  any mass of tissue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(all cancers are tumors but not all tumors are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extile"/>
              </a:rPr>
              <a:t>benign:</a:t>
            </a: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  a non-cancerous tu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Playbill"/>
              </a:rPr>
              <a:t>malignant:</a:t>
            </a:r>
            <a:r>
              <a:rPr b="0" lang="en-US" sz="2400" spc="-1" strike="noStrike">
                <a:solidFill>
                  <a:srgbClr val="000000"/>
                </a:solidFill>
                <a:latin typeface="Playbil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 cancerous tumor that has no membrane to keep it localized, therefore allowing it to 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ritannic Bold"/>
              </a:rPr>
              <a:t>matastasis: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 the spread of cancer from its origination point to other parts of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8000"/>
                </a:solidFill>
                <a:uFillTx/>
                <a:latin typeface="Chalkboard"/>
              </a:rPr>
              <a:t>Causes of Cancer:</a:t>
            </a:r>
            <a:r>
              <a:rPr b="0" lang="en-US" sz="2400" spc="-1" strike="noStrike">
                <a:solidFill>
                  <a:srgbClr val="408000"/>
                </a:solidFill>
                <a:latin typeface="Chalkboard"/>
              </a:rPr>
              <a:t>  exposure to carcinogens in tobacco smoke, asbestos, and toxic waste.  Also, some forms of radiation like x-rays, radon, and ultraviolet rays from the s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344520"/>
            <a:ext cx="746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Some common forms of cancer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halkboard Bold"/>
              </a:rPr>
              <a:t>Skin Cancer: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Most common cancer in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halkboard Bold"/>
              </a:rPr>
              <a:t>melanoma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:  the deadly type of skin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213372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8120" y="495288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495360"/>
            <a:ext cx="765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halkboard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halkboard Bold"/>
              </a:rPr>
              <a:t>Lung Cancer: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more common in smo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-  </a:t>
            </a:r>
            <a:r>
              <a:rPr b="0" lang="en-US" sz="2400" spc="-1" strike="noStrike">
                <a:solidFill>
                  <a:srgbClr val="ff8000"/>
                </a:solidFill>
                <a:latin typeface="Chalkboard Bold"/>
              </a:rPr>
              <a:t>85 %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of male smokers and </a:t>
            </a:r>
            <a:r>
              <a:rPr b="0" lang="en-US" sz="2400" spc="-1" strike="noStrike">
                <a:solidFill>
                  <a:srgbClr val="ff8000"/>
                </a:solidFill>
                <a:latin typeface="Chalkboard Bold"/>
              </a:rPr>
              <a:t>75 %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of female smok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200400" cy="4343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27680" y="1992240"/>
            <a:ext cx="215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000"/>
                </a:solidFill>
                <a:latin typeface="Textile"/>
              </a:rPr>
              <a:t>*Survival rate of lung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000"/>
                </a:solidFill>
                <a:latin typeface="Textile"/>
              </a:rPr>
              <a:t>is only 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722160"/>
            <a:ext cx="784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al Canc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cancer of the mouth and throa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More common in tobacco users and excessive alcohol drin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029200" y="167652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39060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tencil"/>
              </a:rPr>
              <a:t>Other Common forms of cancer a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000"/>
                </a:solidFill>
                <a:latin typeface="Impact"/>
              </a:rPr>
              <a:t>Colon and Rectum: 2nd most common cancers in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Optima"/>
              </a:rPr>
              <a:t>Reproductive Canc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Optima"/>
              </a:rPr>
              <a:t>Female: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breast,  cervical, uterine, and ov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4495680" cy="1143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42670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Optima"/>
              </a:rPr>
              <a:t>Male:</a:t>
            </a: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esticular and prostate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46069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374760"/>
            <a:ext cx="6782040" cy="68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Rockwell"/>
              </a:rPr>
              <a:t>Leukemia: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cancer of the blood-forming tissue in the bone mar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extile"/>
              </a:rPr>
              <a:t>Detecting and Treating Canc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66"/>
                </a:solidFill>
                <a:uFillTx/>
                <a:latin typeface="Techno"/>
              </a:rPr>
              <a:t>biopsy:</a:t>
            </a: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  a test of tissue to detect if cancerous cells are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Palatino"/>
              </a:rPr>
              <a:t>Surgery:</a:t>
            </a:r>
            <a:r>
              <a:rPr b="0" lang="en-US" sz="2400" spc="-1" strike="noStrike">
                <a:solidFill>
                  <a:srgbClr val="333399"/>
                </a:solidFill>
                <a:latin typeface="Palatino"/>
              </a:rPr>
              <a:t>  the surgical removal of a cancerous tumor and affected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8000"/>
                </a:solidFill>
                <a:uFillTx/>
                <a:latin typeface="Optima"/>
              </a:rPr>
              <a:t>Radiation:</a:t>
            </a:r>
            <a:r>
              <a:rPr b="0" lang="en-US" sz="2400" spc="-1" strike="noStrike">
                <a:solidFill>
                  <a:srgbClr val="408000"/>
                </a:solidFill>
                <a:latin typeface="Optima"/>
              </a:rPr>
              <a:t>   The use of radioactive energy from cobalt or radium to penetrate a tumor and destroy the cancerous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halkboard Bold"/>
              </a:rPr>
              <a:t>Chemotherapy:  the use of anti-cancer medications to treat the growth of cancerous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59040" y="29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495360"/>
            <a:ext cx="708660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40"/>
                </a:solidFill>
                <a:latin typeface="Textile"/>
              </a:rPr>
              <a:t>LESS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Textile"/>
              </a:rPr>
              <a:t>O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Textile"/>
              </a:rPr>
              <a:t>NONINFFECTIO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Textile"/>
              </a:rPr>
              <a:t>DISEA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768240"/>
            <a:ext cx="762012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Chalkboard Bold"/>
              </a:rPr>
              <a:t>DIABETES: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A Chronic Disease that affects the way body cells convert food into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Optima"/>
              </a:rPr>
              <a:t>Diabetes many times lead to other problems like blindness, kidney disease, amputations, nerve disease, heart disease and strok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Chalkboard Bold"/>
              </a:rPr>
              <a:t>When food enters the body, carbohydrates are changed to glucose, them absorbed into the blood and sent into cells.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the pancreas does not produce insulin sufficiently,  the glucose is unable to enter the cells and it accumulates in the bloodstrea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halkboard Bold"/>
              </a:rPr>
              <a:t>A high level of sugar in the urine is one of the surest signs that a person has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541440"/>
            <a:ext cx="792468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Low Blood Sugar (Hypoglycemic)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       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High Blood Sugar(Hyperglyce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Palatino"/>
              </a:rPr>
              <a:t>Time Span: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  Sudden Onse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Gradual Onset-hours to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Palatino"/>
              </a:rPr>
              <a:t>Signs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:  Staggering, Poor coordination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Thirst, frequent urination,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Irritability, hostility, pale color, sweating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flushed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skin, vomiting, fruit or 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unconsciousness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winelike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smell on breath,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unconsciou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Palatino"/>
              </a:rPr>
              <a:t>Causes: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  delayed or missed meals, too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Undiagnosed Diabetes,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much insulin, extreme exercise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forgotten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or omitted insulin,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stress, too much food or drink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at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Palatino"/>
              </a:rPr>
              <a:t>Treatment: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  provide sugar, look for ID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Get them to a Doctor. If you”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bracelet, 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NO DIET DRINKS, if they do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not sure what type they are,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not respond, get them to a doctor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provide sugar, if they do no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respond in 10-15 minutes,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them to a do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465120"/>
            <a:ext cx="73152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Arthritis:</a:t>
            </a: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  a disease that covers at least 100 conditions that cause pain and swelling in joints and connecti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cc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Cooper Black"/>
              </a:rPr>
              <a:t>Rheumatoid Arthritis:</a:t>
            </a: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  destructive and disabling inflammation of the j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2.  </a:t>
            </a:r>
            <a:r>
              <a:rPr b="0" lang="en-US" sz="2400" spc="-1" strike="noStrike">
                <a:solidFill>
                  <a:srgbClr val="99cc00"/>
                </a:solidFill>
                <a:latin typeface="Cooper Black"/>
              </a:rPr>
              <a:t>Osteoarthritis:</a:t>
            </a: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  affects primarily the weight-bearing joints of the knees and hips, causing aches and soreness, especially when mo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472428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057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53880"/>
            <a:ext cx="77724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ardiovascular Disease (CVD’s):  medical disorders that affect the heart and blood vess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extile"/>
              </a:rPr>
              <a:t>RISK FACTORS OF CARDIOVASCULAR DISEAS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redity- if one or both parents have heart disease or hypertension (high BP), the risk is 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8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imes New Roman"/>
              </a:rPr>
              <a:t>Ethnicity:  African Americans are twice as lik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8000"/>
                </a:solidFill>
                <a:latin typeface="Times New Roman"/>
              </a:rPr>
              <a:t>to develop high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3.  Gender:  males have a greater risk of heart disease or stroke than 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873000"/>
            <a:ext cx="723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extile"/>
              </a:rPr>
              <a:t>Less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ff"/>
                </a:solidFill>
                <a:latin typeface="Textile"/>
              </a:rPr>
              <a:t>PHYSIC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ff"/>
                </a:solidFill>
                <a:latin typeface="Textile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ff"/>
                </a:solidFill>
                <a:latin typeface="Textile"/>
              </a:rPr>
              <a:t>MENT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ff"/>
                </a:solidFill>
                <a:latin typeface="Textile"/>
              </a:rPr>
              <a:t>CHALLE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692280"/>
            <a:ext cx="7696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8040"/>
                </a:solidFill>
                <a:uFillTx/>
                <a:latin typeface="Times New Roman"/>
              </a:rPr>
              <a:t>Dis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halkboard Bold"/>
              </a:rPr>
              <a:t>any physical or mental impairment that limits normal activities, including seeing, hearing, walking or spe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halkboard Bold"/>
              </a:rPr>
              <a:t>The leading cause of blindness today is complications from diabetes.  Other causes are macular degeneration, glaucoma, and catar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halkboard Bold"/>
              </a:rPr>
              <a:t>Hearing Impairment affects app. 20 million America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halkboard Bold"/>
              </a:rPr>
              <a:t>Profound Deafness:  hearing loss so severe that the person could not benefit from mechanical devices such as hearing a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304920"/>
            <a:ext cx="830592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extile"/>
              </a:rPr>
              <a:t>Mental Retardation</a:t>
            </a: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:  </a:t>
            </a:r>
            <a:r>
              <a:rPr b="0" lang="en-US" sz="2400" spc="-1" strike="noStrike">
                <a:solidFill>
                  <a:srgbClr val="008040"/>
                </a:solidFill>
                <a:latin typeface="Textile"/>
              </a:rPr>
              <a:t>below-average intellectual ability present from birth or early childhood and associated with difficulties in learning and social 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Textile"/>
              </a:rPr>
              <a:t>4 levels of Mental Retardation:  mild, moderate, severe, and profound  </a:t>
            </a:r>
            <a:r>
              <a:rPr b="0" lang="en-US" sz="2400" spc="-1" strike="noStrike">
                <a:solidFill>
                  <a:srgbClr val="6666ff"/>
                </a:solidFill>
                <a:latin typeface="Textile"/>
              </a:rPr>
              <a:t>(75% of all mentally retarded Americans fall in the “mild” category) and are likely not to recognized in gener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halkboard Bold"/>
              </a:rPr>
              <a:t>Americans With Disabilities Act:</a:t>
            </a:r>
            <a:r>
              <a:rPr b="0" lang="en-US" sz="2000" spc="-1" strike="noStrike">
                <a:solidFill>
                  <a:srgbClr val="ff0000"/>
                </a:solidFill>
                <a:latin typeface="Chalkboard Bold"/>
              </a:rPr>
              <a:t>  a law prohibiting the discrimination against people with physical or mental disabilities in the workplace, transportation, public accomodations and tele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3888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20680"/>
            <a:ext cx="72388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ISK FACTORS C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cc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Age:  55% of all heart attacks occur in people 65 and 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Environment:  Air pollution, tobacco smoke, and stress are also risk factors of CV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81280"/>
            <a:ext cx="2834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5600" y="3506760"/>
            <a:ext cx="1638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38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828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369720"/>
            <a:ext cx="72518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Sand"/>
              </a:rPr>
              <a:t>Types of Cardiovascular Dis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extile"/>
              </a:rPr>
              <a:t>1.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nstant High Pressure):  App. 60 million Americans suffer from hy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ollabl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isk factors are obesity, alcohol use, inactivity, smoking and excessive intake of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236196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41148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000"/>
                </a:solidFill>
                <a:latin typeface="Times New Roman"/>
              </a:rPr>
              <a:t>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“silent kill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19320" y="463680"/>
            <a:ext cx="5857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Marker Felt"/>
              </a:rPr>
              <a:t>Diseases of the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Cooper Black"/>
              </a:rPr>
              <a:t>2. Arteriosclerosis:</a:t>
            </a: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2400" spc="-1" strike="noStrike">
                <a:solidFill>
                  <a:srgbClr val="008040"/>
                </a:solidFill>
                <a:latin typeface="Cooper Black"/>
              </a:rPr>
              <a:t>Hardening of the Arteries- caused by a build up of plaque and cholesterol on artery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teriosclerosis is the most common cause of death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1752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228600"/>
            <a:ext cx="7804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 Bold"/>
              </a:rPr>
              <a:t>Diseases of the Hear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ANGINA PECTORIS</a:t>
            </a: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:  A Pain and tightness in the chest due to a lack of oxygen to the heart (</a:t>
            </a: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A warning sign that the heart is in distres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halkboard Bold"/>
              </a:rPr>
              <a:t>Heart Attack: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When the heart stops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(</a:t>
            </a:r>
            <a:r>
              <a:rPr b="0" lang="en-US" sz="2400" spc="-1" strike="noStrike">
                <a:solidFill>
                  <a:srgbClr val="009999"/>
                </a:solidFill>
                <a:latin typeface="Chalkboard Bold"/>
              </a:rPr>
              <a:t>fibrillation-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the rapid ineffective beating of the heart in one of two main chambers called ventr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10080" y="3733920"/>
            <a:ext cx="2743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631800"/>
            <a:ext cx="7266240" cy="67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halkboard Bold"/>
              </a:rPr>
              <a:t>CONGESTIVE HEART FAILURE:</a:t>
            </a:r>
            <a:r>
              <a:rPr b="0" lang="en-US" sz="2000" spc="-1" strike="noStrike">
                <a:solidFill>
                  <a:srgbClr val="000000"/>
                </a:solidFill>
                <a:latin typeface="Chalkboard Bold"/>
              </a:rPr>
              <a:t>  A slow gradual weakening of the heart muscle from over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halkboar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Stroke: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An interruption of the flow of blood to any part of the b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halkboard Bold"/>
              </a:rPr>
              <a:t>Warning signs of a stroke are: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  -sudden weakness or numbness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of the face, are and leg on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one side of the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-  loss of speech or trouble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spe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-  sudden dimness or loss of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vi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usually in just one e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-  enexplained dizziness or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sudden f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The most common cause of a stroke is the blocking of a cerebral artery caused by a </a:t>
            </a:r>
            <a:r>
              <a:rPr b="0" lang="en-US" sz="2000" spc="-1" strike="noStrike">
                <a:solidFill>
                  <a:srgbClr val="ff0000"/>
                </a:solidFill>
                <a:latin typeface="Britannic Bold"/>
              </a:rPr>
              <a:t>blood clot (throm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43200" y="811080"/>
            <a:ext cx="3505320" cy="330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95280" y="4648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Extra Bold"/>
              </a:rPr>
              <a:t>Cerebral Hemmorrhaging:  an artery that bursts inside the br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800" y="914400"/>
            <a:ext cx="548640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Chalkboard Bold"/>
              </a:rPr>
              <a:t>Lesson 2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08000"/>
                </a:solidFill>
                <a:latin typeface="Bertram LET"/>
              </a:rPr>
              <a:t>Canc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6:21:24Z</dcterms:created>
  <dc:creator>Chatham County Schools</dc:creator>
  <dc:description/>
  <dc:language>en-US</dc:language>
  <cp:lastModifiedBy>Joe Little</cp:lastModifiedBy>
  <dcterms:modified xsi:type="dcterms:W3CDTF">2008-10-20T18:56:27Z</dcterms:modified>
  <cp:revision>8</cp:revision>
  <dc:subject/>
  <dc:title>PowerPoint Presentation</dc:title>
</cp:coreProperties>
</file>